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5E69-C162-4725-8299-93CD16632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838-0DC0-47B2-8611-DD22369B6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57E-0650-4F00-A540-D8236088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FCC-889B-4879-80EF-4336E92E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8E1-8028-410D-B196-0C9E5FD5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1F9-A6C8-4829-A4C0-A5FB5C7C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5B2-796C-47A7-943E-56CBD706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515-16CA-44CB-BC68-A5F809BA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C6E-CB31-4D0E-9CCA-FD1360C8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6F3-4CAF-4E01-A9B7-6254AC71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CDF-8C77-4C39-8B94-BEB46F35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B0F-D860-4A58-A504-45BE4C63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A1A-7266-47DB-BFC2-A78A0766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828-47AB-4FAD-A004-EBF95E01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DF14-CFA3-47BF-A71F-BE60A1F61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5:21Z</dcterms:modified>
  <cp:revision>118</cp:revision>
  <dc:subject/>
  <dc:title>Museum of World Stuff</dc:title>
</cp:coreProperties>
</file>